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2B2-580B-49C2-86E2-E596909B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691-5D94-41DD-BC61-13DF8AC0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9C0-FD8B-4097-98AD-655347C1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184-0301-4B8A-9B61-EA91ED36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6E2-9B2C-46B6-A9FA-15DD01A1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8AC-238C-4278-948E-D6C4094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DD6-2398-4F2F-BE53-BD68A786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E47-012A-4A08-9781-4C987638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EEA-40A3-4A73-AF49-47561D4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14E-BC22-422C-981B-EDCEB49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0AF-86E6-4611-A8D4-4BA7DB9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04A-80C9-4780-B5B9-B39BCDF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AA7-D83B-41DF-92EF-B1FC06C7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glamourcases.co.nz/i/Brush%2520Belt/Brush_Belt_Hot_Pink_with_brushes.jpg&amp;imgrefurl=http://www.glamourcases.co.nz/catalog/item/7289142/7551926.htm&amp;usg=__JshZpeG3qzEvcn2x7twO4mW0GcE=&amp;h=407&amp;w=640&amp;sz=152&amp;hl=en&amp;start=38&amp;zoom=0&amp;itbs=1&amp;tbnid=uFLRUBq3qHvazM:&amp;tbnh=87&amp;tbnw=137&amp;prev=/images%3Fq%3Dpink%2Bbrushes%26start%3D21%26hl%3Den%26safe%3Dactive%26sa%3DN%26gbv%3D2%26ndsp%3D21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84280"/>
            <a:ext cx="30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9999"/>
                </a:solidFill>
                <a:latin typeface="Arial Rounded MT Bold"/>
              </a:rPr>
              <a:t>Pret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2846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P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A</a:t>
            </a: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D</a:t>
            </a: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1413000"/>
            <a:ext cx="3168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-223920"/>
            <a:ext cx="12952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808080"/>
                </a:solidFill>
                <a:latin typeface="Arial Rounded MT Bold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 Rounded MT Bold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808080"/>
                </a:solidFill>
                <a:latin typeface="Arial Rounded MT Bold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 Rounded MT Bold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4681440" cy="221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013360"/>
            <a:ext cx="3745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229360"/>
            <a:ext cx="25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Rounded MT Bold"/>
              </a:rPr>
              <a:t>By Josh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916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"/>
              </a:rPr>
              <a:t>Play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42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1916280"/>
            <a:ext cx="1800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7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Showcard Gothic"/>
              </a:rPr>
              <a:t>pa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Unicode MS"/>
              </a:rPr>
              <a:t>Pogo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77080" y="551664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erlin Sans FB Demi"/>
              </a:rPr>
              <a:t>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1.85185E-006 C 0.31805 -0.01088 0.26267 -0.02176 0.2434 -0.02176 C 0.11996 -0.02176 -0.00643 0.15069 -0.00643 0.32338 C -0.00643 0.23611 -0.07049 0.15069 -0.13021 0.15069 C -0.19358 0.15069 -0.25313 0.23773 -0.25313 0.32338 C -0.25313 0.28032 -0.28525 0.23611 -0.31684 0.23611 C -0.34844 0.23611 -0.38021 0.27916 -0.38021 0.32338 C -0.38021 0.30116 -0.39584 0.28032 -0.41181 0.28032 C -0.42796 0.28032 -0.44341 0.30231 -0.44341 0.32338 C -0.44341 0.31204 -0.45157 0.30116 -0.45955 0.30116 C -0.46337 0.30116 -0.47518 0.31204 -0.47518 0.32338 C -0.47518 0.31759 -0.47934 0.31204 -0.48316 0.31204 C -0.48316 0.31065 -0.49167 0.31759 -0.49167 0.32338 C -0.49167 0.32014 -0.49167 0.31759 -0.49601 0.31759 C -0.49601 0.31921 -0.50035 0.3206 -0.50035 0.32338 C -0.50035 0.32176 -0.50035 0.32014 -0.50035 0.31921 C -0.504 0.31921 -0.504 0.3206 -0.504 0.32199 C -0.50834 0.32199 -0.50834 0.3206 -0.50834 0.31921 C -0.51181 0.31921 -0.51181 0.3206 -0.51181 0.32199 E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62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333399"/>
                </a:solidFill>
                <a:latin typeface="Georgia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18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3213000"/>
            <a:ext cx="1280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5120" y="231444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ff0066"/>
                </a:solidFill>
                <a:latin typeface="Berlin Sans FB Dem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708280"/>
            <a:ext cx="26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Berlin Sans FB Demi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414972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Berlin Sans FB Demi"/>
              </a:rPr>
              <a:t>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89360"/>
            <a:ext cx="1366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551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Berlin Sans FB Demi"/>
              </a:rPr>
              <a:t>Ping p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67480" y="5373720"/>
            <a:ext cx="1460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990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-685800"/>
            <a:ext cx="2209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lackadder ITC"/>
              </a:rPr>
              <a:t>The 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9907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ench Script MT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4800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gi"/>
              </a:rPr>
              <a:t>Ping P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3880" y="6172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Georgia"/>
              </a:rPr>
              <a:t>BY M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adder ITC"/>
              </a:rPr>
              <a:t>Po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295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P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1337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The Pre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934920"/>
            <a:ext cx="2666880" cy="1694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 A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2:06:59Z</dcterms:created>
  <dc:creator>Ministry of Education</dc:creator>
  <dc:description/>
  <dc:language>en-US</dc:language>
  <cp:lastModifiedBy>Office</cp:lastModifiedBy>
  <dcterms:modified xsi:type="dcterms:W3CDTF">2010-09-16T02:24:04Z</dcterms:modified>
  <cp:revision>4</cp:revision>
  <dc:subject/>
  <dc:title>Slide 1</dc:title>
</cp:coreProperties>
</file>